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16E9-729B-435B-99A7-DA2E3CC63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5E1F-FB82-4645-AA04-167A7B836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9E81-DF5A-44E9-814E-F97E8B953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897C-4938-4511-81CF-811845842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FEF6-CDD6-4552-8C2E-0D80F827F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F8EF-E992-463B-BFA9-F77C3935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600F-D77D-4D1F-BB81-5C7BB833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CD42-D63C-4E91-B623-A2597F6E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D8B1-A7B9-4E68-97BC-1D5D8A19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7524-4D36-4EDF-9BE7-C7A4233F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977D-D3F1-49E0-99A4-5C5F0F6D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A84E-C8E1-4AC3-8D80-1923AB68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1B64-3BCC-4F43-9259-A50EDE8C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63CE-98A3-4B3F-B927-C9B08D06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A93A-DC92-4653-9475-780B64DD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5AFD-A19B-4A95-B0F5-8D19BD1B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E2F7-BA41-41FF-BDE9-392B055D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A9C5-2215-4FD6-BEFE-4B6D411CA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0435712"/>
          <p:cNvPicPr/>
          <p:nvPr/>
        </p:nvPicPr>
        <p:blipFill>
          <a:blip r:embed="rId1"/>
          <a:stretch/>
        </p:blipFill>
        <p:spPr>
          <a:xfrm>
            <a:off x="228600" y="990720"/>
            <a:ext cx="1774800" cy="5346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 for Moms and their Bab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 pregnant mom SHOULDN’T d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2193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at raw seafood—May cause bacterial infe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gin rigorous exercise pla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j0435712"/>
          <p:cNvPicPr/>
          <p:nvPr/>
        </p:nvPicPr>
        <p:blipFill>
          <a:blip r:embed="rId1"/>
          <a:stretch/>
        </p:blipFill>
        <p:spPr>
          <a:xfrm>
            <a:off x="228600" y="990720"/>
            <a:ext cx="17748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do before Conce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952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o have all YOUR vaccinations up to d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n established exercise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eating a nutrition based di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aking folic acid approximately 1 month before conceiv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insurance policies to make sure they contain a pregna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j0435712"/>
          <p:cNvPicPr/>
          <p:nvPr/>
        </p:nvPicPr>
        <p:blipFill>
          <a:blip r:embed="rId1"/>
          <a:stretch/>
        </p:blipFill>
        <p:spPr>
          <a:xfrm>
            <a:off x="0" y="1066680"/>
            <a:ext cx="17748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do when you think you are Pregna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666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going to the doctor AS SOON you think you might be pregn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into taking delivery/child care cla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 safe environment (nursery)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j0435712"/>
          <p:cNvPicPr/>
          <p:nvPr/>
        </p:nvPicPr>
        <p:blipFill>
          <a:blip r:embed="rId1"/>
          <a:stretch/>
        </p:blipFill>
        <p:spPr>
          <a:xfrm>
            <a:off x="0" y="1511280"/>
            <a:ext cx="17748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j0435712"/>
          <p:cNvPicPr/>
          <p:nvPr/>
        </p:nvPicPr>
        <p:blipFill>
          <a:blip r:embed="rId1"/>
          <a:stretch/>
        </p:blipFill>
        <p:spPr>
          <a:xfrm>
            <a:off x="228600" y="1511280"/>
            <a:ext cx="1774800" cy="5346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a pregnant mom keeps healthy for herself and the bab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n average gain about 25-30 lbs over the pregnanc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normal weight before becoming pregna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eping Healthy Continu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666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t folic acid to help prevent birth de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ccoli, fortified orange juice, and liver are foods high in folic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rease sugar int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e fiber int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j0435712"/>
          <p:cNvPicPr/>
          <p:nvPr/>
        </p:nvPicPr>
        <p:blipFill>
          <a:blip r:embed="rId1"/>
          <a:stretch/>
        </p:blipFill>
        <p:spPr>
          <a:xfrm>
            <a:off x="0" y="1511280"/>
            <a:ext cx="17748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j0435712"/>
          <p:cNvPicPr/>
          <p:nvPr/>
        </p:nvPicPr>
        <p:blipFill>
          <a:blip r:embed="rId1"/>
          <a:stretch/>
        </p:blipFill>
        <p:spPr>
          <a:xfrm>
            <a:off x="152280" y="1219320"/>
            <a:ext cx="1774800" cy="5346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 an additional 300 calories a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ink 8-10 glasses of water a day to aid in bowel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3716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t foods rich in i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ch 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d M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fy vege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vents anemia- which means a  lack of iron in the 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T, REST, REST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j0435712"/>
          <p:cNvPicPr/>
          <p:nvPr/>
        </p:nvPicPr>
        <p:blipFill>
          <a:blip r:embed="rId1"/>
          <a:stretch/>
        </p:blipFill>
        <p:spPr>
          <a:xfrm>
            <a:off x="0" y="1295280"/>
            <a:ext cx="17748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 pregnant mom SHOULDN’T do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4479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T SMOK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 cause low birth weight, and premature bir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j0435712"/>
          <p:cNvPicPr/>
          <p:nvPr/>
        </p:nvPicPr>
        <p:blipFill>
          <a:blip r:embed="rId1"/>
          <a:stretch/>
        </p:blipFill>
        <p:spPr>
          <a:xfrm>
            <a:off x="0" y="1295280"/>
            <a:ext cx="17748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j0435712"/>
          <p:cNvPicPr/>
          <p:nvPr/>
        </p:nvPicPr>
        <p:blipFill>
          <a:blip r:embed="rId1"/>
          <a:stretch/>
        </p:blipFill>
        <p:spPr>
          <a:xfrm>
            <a:off x="228600" y="990720"/>
            <a:ext cx="1774800" cy="53467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 pregnant mom should NOT d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T DRINK ALCOHOL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 cause birth defects, low birth weight, premature birth and, F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02:54:32Z</dcterms:created>
  <dc:creator>Preferred Customer</dc:creator>
  <dc:description/>
  <dc:language>en-US</dc:language>
  <cp:lastModifiedBy>depr14463a</cp:lastModifiedBy>
  <dcterms:modified xsi:type="dcterms:W3CDTF">2009-07-30T13:54:12Z</dcterms:modified>
  <cp:revision>11</cp:revision>
  <dc:subject/>
  <dc:title>Health for Teen Moms and their Babies </dc:title>
</cp:coreProperties>
</file>